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972800" cy="73152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39920" y="650520"/>
            <a:ext cx="829296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39920" y="2114640"/>
            <a:ext cx="8292960" cy="209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39920" y="4406400"/>
            <a:ext cx="8292960" cy="209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9920" y="650520"/>
            <a:ext cx="829296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9920" y="2114640"/>
            <a:ext cx="4046760" cy="209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89360" y="2114640"/>
            <a:ext cx="4046760" cy="209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39920" y="4406400"/>
            <a:ext cx="4046760" cy="209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589360" y="4406400"/>
            <a:ext cx="4046760" cy="209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9920" y="650520"/>
            <a:ext cx="829296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39920" y="2114640"/>
            <a:ext cx="2670120" cy="209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3960" y="2114640"/>
            <a:ext cx="2670120" cy="209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48000" y="2114640"/>
            <a:ext cx="2670120" cy="209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39920" y="4406400"/>
            <a:ext cx="2670120" cy="209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143960" y="4406400"/>
            <a:ext cx="2670120" cy="209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948000" y="4406400"/>
            <a:ext cx="2670120" cy="209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39920" y="650520"/>
            <a:ext cx="829296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39920" y="2114640"/>
            <a:ext cx="82929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39920" y="650520"/>
            <a:ext cx="829296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39920" y="2114640"/>
            <a:ext cx="8292960" cy="4387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39920" y="650520"/>
            <a:ext cx="829296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39920" y="2114640"/>
            <a:ext cx="4046760" cy="4387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589360" y="2114640"/>
            <a:ext cx="4046760" cy="4387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9920" y="650520"/>
            <a:ext cx="829296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39920" y="650520"/>
            <a:ext cx="8292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9920" y="650520"/>
            <a:ext cx="829296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39920" y="2114640"/>
            <a:ext cx="4046760" cy="209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89360" y="2114640"/>
            <a:ext cx="4046760" cy="4387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39920" y="4406400"/>
            <a:ext cx="4046760" cy="209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9920" y="650520"/>
            <a:ext cx="829296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39920" y="2114640"/>
            <a:ext cx="4046760" cy="4387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89360" y="2114640"/>
            <a:ext cx="4046760" cy="209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589360" y="4406400"/>
            <a:ext cx="4046760" cy="209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9920" y="650520"/>
            <a:ext cx="829296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39920" y="2114640"/>
            <a:ext cx="4046760" cy="209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89360" y="2114640"/>
            <a:ext cx="4046760" cy="209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39920" y="4406400"/>
            <a:ext cx="8292960" cy="209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9920" y="650520"/>
            <a:ext cx="829296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9920" y="2114640"/>
            <a:ext cx="8292960" cy="4387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7000"/>
          </a:bodyPr>
          <a:p>
            <a:pPr marL="355680" indent="-3556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1120" indent="-2952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8360" indent="-2383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3200" indent="-2372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38760" indent="-2383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138760" indent="-2383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138760" indent="-2383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44600" y="1533600"/>
            <a:ext cx="10093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rect comparison of Geodesic Sensor Net (128-channel) and conventional (30-channel) ERPs in tonal and phonetic oddball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290680" y="2689200"/>
            <a:ext cx="6388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ürgen Kayser, Craig E. Tenk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labja Bhattacharya, Barbara K. Stuart, Jeffrey Hudson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ard E. Bru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887480" y="3759120"/>
            <a:ext cx="7193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York State Psychiatric Institute, Department of Bio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syphyslogo" descr=""/>
          <p:cNvPicPr/>
          <p:nvPr/>
        </p:nvPicPr>
        <p:blipFill>
          <a:blip r:embed="rId1"/>
          <a:stretch/>
        </p:blipFill>
        <p:spPr>
          <a:xfrm>
            <a:off x="3529080" y="4729320"/>
            <a:ext cx="3921120" cy="1508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73320" y="6259680"/>
            <a:ext cx="483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nypisys.cpmc.columbia.edu/psychophysiology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4280" y="673200"/>
            <a:ext cx="8539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ety for Psychophysiological Research (SPR), 40th annual meeting, San Diego, CA, October 18-22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posium 14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nse electrode array ERPs: Methodological developments, challenges and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GSN128_phonetic" descr=""/>
          <p:cNvPicPr/>
          <p:nvPr/>
        </p:nvPicPr>
        <p:blipFill>
          <a:blip r:embed="rId1"/>
          <a:stretch/>
        </p:blipFill>
        <p:spPr>
          <a:xfrm>
            <a:off x="647640" y="593640"/>
            <a:ext cx="9677520" cy="6448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762120" y="304920"/>
            <a:ext cx="32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RP Wave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CV Syll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780320" y="533520"/>
            <a:ext cx="1676520" cy="516240"/>
            <a:chOff x="7780320" y="533520"/>
            <a:chExt cx="1676520" cy="516240"/>
          </a:xfrm>
        </p:grpSpPr>
        <p:sp>
          <p:nvSpPr>
            <p:cNvPr id="248" name=""/>
            <p:cNvSpPr/>
            <p:nvPr/>
          </p:nvSpPr>
          <p:spPr>
            <a:xfrm>
              <a:off x="7780320" y="74268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80"/>
                  </a:solidFill>
                  <a:latin typeface="Arial"/>
                </a:rPr>
                <a:t>-------  Nontarg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80320" y="53352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40204"/>
                  </a:solidFill>
                  <a:latin typeface="Arial"/>
                </a:rPr>
                <a:t>-------  </a:t>
              </a:r>
              <a:r>
                <a:rPr b="1" lang="en-US" sz="1400" spc="-1" strike="noStrike">
                  <a:solidFill>
                    <a:srgbClr val="800000"/>
                  </a:solidFill>
                  <a:latin typeface="Arial"/>
                </a:rPr>
                <a:t>Targ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233960" y="304920"/>
            <a:ext cx="25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Geodesic Sensor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Cz%20Tonal%20Nontargets" descr=""/>
          <p:cNvPicPr/>
          <p:nvPr/>
        </p:nvPicPr>
        <p:blipFill>
          <a:blip r:embed="rId1"/>
          <a:stretch/>
        </p:blipFill>
        <p:spPr>
          <a:xfrm>
            <a:off x="1625760" y="4106880"/>
            <a:ext cx="4570200" cy="2604960"/>
          </a:xfrm>
          <a:prstGeom prst="rect">
            <a:avLst/>
          </a:prstGeom>
          <a:ln w="0">
            <a:noFill/>
          </a:ln>
        </p:spPr>
      </p:pic>
      <p:pic>
        <p:nvPicPr>
          <p:cNvPr id="252" name="Cz%20Tonal%20Targets" descr=""/>
          <p:cNvPicPr/>
          <p:nvPr/>
        </p:nvPicPr>
        <p:blipFill>
          <a:blip r:embed="rId2"/>
          <a:stretch/>
        </p:blipFill>
        <p:spPr>
          <a:xfrm>
            <a:off x="1625760" y="1365120"/>
            <a:ext cx="4570200" cy="2605320"/>
          </a:xfrm>
          <a:prstGeom prst="rect">
            <a:avLst/>
          </a:prstGeom>
          <a:ln w="0">
            <a:noFill/>
          </a:ln>
        </p:spPr>
      </p:pic>
      <p:pic>
        <p:nvPicPr>
          <p:cNvPr id="253" name="Cz%20Phonetic%20Targets" descr=""/>
          <p:cNvPicPr/>
          <p:nvPr/>
        </p:nvPicPr>
        <p:blipFill>
          <a:blip r:embed="rId3"/>
          <a:stretch/>
        </p:blipFill>
        <p:spPr>
          <a:xfrm>
            <a:off x="5738760" y="1365120"/>
            <a:ext cx="4570560" cy="2605320"/>
          </a:xfrm>
          <a:prstGeom prst="rect">
            <a:avLst/>
          </a:prstGeom>
          <a:ln w="0">
            <a:noFill/>
          </a:ln>
        </p:spPr>
      </p:pic>
      <p:pic>
        <p:nvPicPr>
          <p:cNvPr id="254" name="Cz%20Phonetic%20Nontargets" descr=""/>
          <p:cNvPicPr/>
          <p:nvPr/>
        </p:nvPicPr>
        <p:blipFill>
          <a:blip r:embed="rId4"/>
          <a:stretch/>
        </p:blipFill>
        <p:spPr>
          <a:xfrm>
            <a:off x="5738760" y="4106880"/>
            <a:ext cx="4570560" cy="26049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762120" y="304920"/>
            <a:ext cx="31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RP Wave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 Vert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48680" y="1066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CV Syll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86200" y="1066680"/>
            <a:ext cx="18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omplex 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3120" y="1969920"/>
            <a:ext cx="9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Tar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6440" y="4691160"/>
            <a:ext cx="13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Nontar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935600" y="457200"/>
            <a:ext cx="2975040" cy="516600"/>
            <a:chOff x="4935600" y="457200"/>
            <a:chExt cx="2975040" cy="516600"/>
          </a:xfrm>
        </p:grpSpPr>
        <p:sp>
          <p:nvSpPr>
            <p:cNvPr id="261" name=""/>
            <p:cNvSpPr/>
            <p:nvPr/>
          </p:nvSpPr>
          <p:spPr>
            <a:xfrm>
              <a:off x="4935600" y="666720"/>
              <a:ext cx="29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"/>
                </a:rPr>
                <a:t>-------  </a:t>
              </a:r>
              <a:r>
                <a:rPr b="1" lang="en-US" sz="1400" spc="-1" strike="noStrike">
                  <a:solidFill>
                    <a:srgbClr val="ff6600"/>
                  </a:solidFill>
                  <a:latin typeface="Arial"/>
                </a:rPr>
                <a:t>Geodesic Sensor 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35600" y="457200"/>
              <a:ext cx="167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-------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ElectroC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055960" y="1644480"/>
            <a:ext cx="7238880" cy="4078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762120" y="304920"/>
            <a:ext cx="53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RP Topograph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 Surface Potentials (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Targ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95960" y="3049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interval: 0 - 700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7400" y="2454120"/>
            <a:ext cx="13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lectro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57560" y="1270080"/>
            <a:ext cx="10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20960" y="127008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2200" y="4359240"/>
            <a:ext cx="139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Geodesic Sensor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96040" y="1270080"/>
            <a:ext cx="10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750080" y="127008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405360" y="1398600"/>
            <a:ext cx="9559440" cy="4481640"/>
            <a:chOff x="405360" y="1398600"/>
            <a:chExt cx="9559440" cy="4481640"/>
          </a:xfrm>
        </p:grpSpPr>
        <p:pic>
          <p:nvPicPr>
            <p:cNvPr id="273" name="ecprfl" descr=""/>
            <p:cNvPicPr/>
            <p:nvPr/>
          </p:nvPicPr>
          <p:blipFill>
            <a:blip r:embed="rId1"/>
            <a:stretch/>
          </p:blipFill>
          <p:spPr>
            <a:xfrm>
              <a:off x="2741760" y="1433520"/>
              <a:ext cx="7223040" cy="44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05360" y="2511360"/>
              <a:ext cx="24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ElectroCap (30-channe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719920" y="479052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8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81480" y="519660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3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622840" y="532368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97600" y="449820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21320" y="423144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55720" y="1398600"/>
              <a:ext cx="2514600" cy="2030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762120" y="304920"/>
            <a:ext cx="36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mporal PC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Factor Loa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3160" y="728640"/>
            <a:ext cx="226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variance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scaled Varimax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036800" y="1398600"/>
            <a:ext cx="8928000" cy="4481640"/>
            <a:chOff x="1036800" y="1398600"/>
            <a:chExt cx="8928000" cy="4481640"/>
          </a:xfrm>
        </p:grpSpPr>
        <p:pic>
          <p:nvPicPr>
            <p:cNvPr id="284" name="Gsn30rfl" descr=""/>
            <p:cNvPicPr/>
            <p:nvPr/>
          </p:nvPicPr>
          <p:blipFill>
            <a:blip r:embed="rId2"/>
            <a:stretch/>
          </p:blipFill>
          <p:spPr>
            <a:xfrm>
              <a:off x="2741760" y="1433520"/>
              <a:ext cx="7223040" cy="44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1036800" y="3233880"/>
              <a:ext cx="186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GSN (30-channe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55720" y="1398600"/>
              <a:ext cx="2514600" cy="2030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924120" y="1398600"/>
            <a:ext cx="9040680" cy="4481640"/>
            <a:chOff x="924120" y="1398600"/>
            <a:chExt cx="9040680" cy="4481640"/>
          </a:xfrm>
        </p:grpSpPr>
        <p:pic>
          <p:nvPicPr>
            <p:cNvPr id="288" name="Gsn128rfl" descr=""/>
            <p:cNvPicPr/>
            <p:nvPr/>
          </p:nvPicPr>
          <p:blipFill>
            <a:blip r:embed="rId3"/>
            <a:stretch/>
          </p:blipFill>
          <p:spPr>
            <a:xfrm>
              <a:off x="2741760" y="1433520"/>
              <a:ext cx="7223040" cy="44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924120" y="3956040"/>
              <a:ext cx="198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GSN (128-channe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55720" y="1398600"/>
              <a:ext cx="2514600" cy="2030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314280" y="1398600"/>
            <a:ext cx="10303200" cy="4481640"/>
            <a:chOff x="314280" y="1398600"/>
            <a:chExt cx="10303200" cy="4481640"/>
          </a:xfrm>
        </p:grpSpPr>
        <p:pic>
          <p:nvPicPr>
            <p:cNvPr id="292" name="ALL30rfl" descr=""/>
            <p:cNvPicPr/>
            <p:nvPr/>
          </p:nvPicPr>
          <p:blipFill>
            <a:blip r:embed="rId4"/>
            <a:stretch/>
          </p:blipFill>
          <p:spPr>
            <a:xfrm>
              <a:off x="2741760" y="1433520"/>
              <a:ext cx="7223040" cy="444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3" name=""/>
            <p:cNvGrpSpPr/>
            <p:nvPr/>
          </p:nvGrpSpPr>
          <p:grpSpPr>
            <a:xfrm>
              <a:off x="9278640" y="2813040"/>
              <a:ext cx="1338840" cy="1330560"/>
              <a:chOff x="9278640" y="2813040"/>
              <a:chExt cx="1338840" cy="1330560"/>
            </a:xfrm>
          </p:grpSpPr>
          <p:sp>
            <p:nvSpPr>
              <p:cNvPr id="294" name=""/>
              <p:cNvSpPr/>
              <p:nvPr/>
            </p:nvSpPr>
            <p:spPr>
              <a:xfrm>
                <a:off x="9296280" y="2813040"/>
                <a:ext cx="1305000" cy="1324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9487800" y="3053880"/>
                <a:ext cx="9457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380   36.7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890   26.1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300   15.2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200     6.1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110     3.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9278640" y="2844000"/>
                <a:ext cx="1338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Explained Varian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9812520" y="3897360"/>
                <a:ext cx="622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87.1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9901080" y="3724200"/>
                <a:ext cx="533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_____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8731080" y="45806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8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2640" y="501588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3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34000" y="51332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08400" y="4374360"/>
              <a:ext cx="48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32480" y="42030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4280" y="2465280"/>
              <a:ext cx="2635200" cy="19656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" y="4678200"/>
              <a:ext cx="2379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ElectroCa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(30-channe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6600"/>
                  </a:solidFill>
                  <a:latin typeface="Arial"/>
                </a:rPr>
                <a:t>GS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6600"/>
                  </a:solidFill>
                  <a:latin typeface="Arial"/>
                </a:rPr>
                <a:t>(30-channe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55720" y="1398600"/>
              <a:ext cx="2514600" cy="2030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N110load" descr=""/>
          <p:cNvPicPr/>
          <p:nvPr/>
        </p:nvPicPr>
        <p:blipFill>
          <a:blip r:embed="rId1"/>
          <a:stretch/>
        </p:blipFill>
        <p:spPr>
          <a:xfrm>
            <a:off x="7989840" y="279360"/>
            <a:ext cx="2697120" cy="1316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8651880" y="98496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304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RP Topograph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 N110 (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Targ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7400" y="2454120"/>
            <a:ext cx="13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lectro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1270080"/>
            <a:ext cx="10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20960" y="127008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2200" y="4359240"/>
            <a:ext cx="139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Geodesic Sensor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15280" y="3311640"/>
            <a:ext cx="106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950240" y="331164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N110_T" descr=""/>
          <p:cNvPicPr/>
          <p:nvPr/>
        </p:nvPicPr>
        <p:blipFill>
          <a:blip r:embed="rId2"/>
          <a:stretch/>
        </p:blipFill>
        <p:spPr>
          <a:xfrm>
            <a:off x="1982880" y="1581120"/>
            <a:ext cx="4095720" cy="4113360"/>
          </a:xfrm>
          <a:prstGeom prst="rect">
            <a:avLst/>
          </a:prstGeom>
          <a:ln w="0">
            <a:noFill/>
          </a:ln>
        </p:spPr>
      </p:pic>
      <p:pic>
        <p:nvPicPr>
          <p:cNvPr id="317" name="N110_T-GSN128" descr=""/>
          <p:cNvPicPr/>
          <p:nvPr/>
        </p:nvPicPr>
        <p:blipFill>
          <a:blip r:embed="rId3"/>
          <a:stretch/>
        </p:blipFill>
        <p:spPr>
          <a:xfrm>
            <a:off x="6251400" y="3600360"/>
            <a:ext cx="4086360" cy="2097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N200load" descr=""/>
          <p:cNvPicPr/>
          <p:nvPr/>
        </p:nvPicPr>
        <p:blipFill>
          <a:blip r:embed="rId1"/>
          <a:stretch/>
        </p:blipFill>
        <p:spPr>
          <a:xfrm>
            <a:off x="7986600" y="276120"/>
            <a:ext cx="2697120" cy="13147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8809200" y="103284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304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RP Topograph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 N200 (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Targ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7400" y="2454120"/>
            <a:ext cx="13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lectro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2200" y="4359240"/>
            <a:ext cx="139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Geodesic Sensor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N200_T" descr=""/>
          <p:cNvPicPr/>
          <p:nvPr/>
        </p:nvPicPr>
        <p:blipFill>
          <a:blip r:embed="rId2"/>
          <a:stretch/>
        </p:blipFill>
        <p:spPr>
          <a:xfrm>
            <a:off x="1982880" y="1581120"/>
            <a:ext cx="4095720" cy="4113360"/>
          </a:xfrm>
          <a:prstGeom prst="rect">
            <a:avLst/>
          </a:prstGeom>
          <a:ln w="0">
            <a:noFill/>
          </a:ln>
        </p:spPr>
      </p:pic>
      <p:pic>
        <p:nvPicPr>
          <p:cNvPr id="324" name="N200_T-GSN128" descr=""/>
          <p:cNvPicPr/>
          <p:nvPr/>
        </p:nvPicPr>
        <p:blipFill>
          <a:blip r:embed="rId3"/>
          <a:stretch/>
        </p:blipFill>
        <p:spPr>
          <a:xfrm>
            <a:off x="6224760" y="3600360"/>
            <a:ext cx="4086000" cy="20970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286000" y="1270080"/>
            <a:ext cx="10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20960" y="127008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15280" y="3311640"/>
            <a:ext cx="106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950240" y="331164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32160" y="5889600"/>
            <a:ext cx="15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Syst x Task x He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76560" y="588960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695a4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 = 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40080" y="6276960"/>
            <a:ext cx="155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6000">
                <a:solidFill>
                  <a:srgbClr val="0000ff"/>
                </a:solidFill>
                <a:latin typeface="Arial"/>
              </a:rPr>
              <a:t>ECap 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Task x He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75480" y="6276960"/>
            <a:ext cx="83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695a4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 = .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40080" y="6588000"/>
            <a:ext cx="155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6000">
                <a:solidFill>
                  <a:srgbClr val="ff6600"/>
                </a:solidFill>
                <a:latin typeface="Arial"/>
              </a:rPr>
              <a:t>GSN 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Task x He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76560" y="658800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695a4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 = 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82920" y="6232680"/>
            <a:ext cx="223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300load" descr=""/>
          <p:cNvPicPr/>
          <p:nvPr/>
        </p:nvPicPr>
        <p:blipFill>
          <a:blip r:embed="rId1"/>
          <a:stretch/>
        </p:blipFill>
        <p:spPr>
          <a:xfrm>
            <a:off x="7985160" y="279360"/>
            <a:ext cx="2697120" cy="13143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8980560" y="120564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304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RP Topograph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 P300 (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Targ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7400" y="2454120"/>
            <a:ext cx="13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lectro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2200" y="4359240"/>
            <a:ext cx="139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Geodesic Sensor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300_T" descr=""/>
          <p:cNvPicPr/>
          <p:nvPr/>
        </p:nvPicPr>
        <p:blipFill>
          <a:blip r:embed="rId2"/>
          <a:stretch/>
        </p:blipFill>
        <p:spPr>
          <a:xfrm>
            <a:off x="1982880" y="1581120"/>
            <a:ext cx="4095720" cy="4113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286000" y="1270080"/>
            <a:ext cx="10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20960" y="127008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15280" y="3311640"/>
            <a:ext cx="106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50240" y="331164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300_T-GSN128" descr=""/>
          <p:cNvPicPr/>
          <p:nvPr/>
        </p:nvPicPr>
        <p:blipFill>
          <a:blip r:embed="rId3"/>
          <a:stretch/>
        </p:blipFill>
        <p:spPr>
          <a:xfrm>
            <a:off x="6224760" y="3600360"/>
            <a:ext cx="4086000" cy="2097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565360" y="5889600"/>
            <a:ext cx="101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15400" y="5889600"/>
            <a:ext cx="7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695a4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 = .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65360" y="6156360"/>
            <a:ext cx="101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Syst x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16120" y="615636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695a4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 = 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380load" descr=""/>
          <p:cNvPicPr/>
          <p:nvPr/>
        </p:nvPicPr>
        <p:blipFill>
          <a:blip r:embed="rId1"/>
          <a:stretch/>
        </p:blipFill>
        <p:spPr>
          <a:xfrm>
            <a:off x="7988400" y="282600"/>
            <a:ext cx="2697120" cy="13143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762120" y="304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RP Topograph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 P380 (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Targ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1270080"/>
            <a:ext cx="10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20960" y="127008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515280" y="3311640"/>
            <a:ext cx="106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50240" y="331164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380_T" descr=""/>
          <p:cNvPicPr/>
          <p:nvPr/>
        </p:nvPicPr>
        <p:blipFill>
          <a:blip r:embed="rId2"/>
          <a:stretch/>
        </p:blipFill>
        <p:spPr>
          <a:xfrm>
            <a:off x="1982880" y="1584360"/>
            <a:ext cx="4095720" cy="41130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617400" y="2454120"/>
            <a:ext cx="13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lectro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92200" y="4359240"/>
            <a:ext cx="139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Geodesic Sensor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380_T-GSN128" descr=""/>
          <p:cNvPicPr/>
          <p:nvPr/>
        </p:nvPicPr>
        <p:blipFill>
          <a:blip r:embed="rId3"/>
          <a:stretch/>
        </p:blipFill>
        <p:spPr>
          <a:xfrm>
            <a:off x="6224760" y="3600360"/>
            <a:ext cx="4086000" cy="20970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9145440" y="1205640"/>
            <a:ext cx="4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3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84440" y="5889600"/>
            <a:ext cx="101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Syst x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35200" y="588960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695a4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 = 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32160" y="6280200"/>
            <a:ext cx="116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Pz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 Syst x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37360" y="6280200"/>
            <a:ext cx="83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695a4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 = .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82920" y="6232680"/>
            <a:ext cx="178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N2P3load" descr=""/>
          <p:cNvPicPr/>
          <p:nvPr/>
        </p:nvPicPr>
        <p:blipFill>
          <a:blip r:embed="rId1"/>
          <a:stretch/>
        </p:blipFill>
        <p:spPr>
          <a:xfrm>
            <a:off x="7988400" y="279360"/>
            <a:ext cx="2697120" cy="13143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9435960" y="1172520"/>
            <a:ext cx="124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P380+P300) – (N2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120" y="304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RP Topograph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 N2/P3 Amplitude (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Targ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1270080"/>
            <a:ext cx="10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20960" y="127008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5280" y="3311640"/>
            <a:ext cx="106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950240" y="331164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7400" y="2454120"/>
            <a:ext cx="13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lectro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2200" y="4359240"/>
            <a:ext cx="139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Geodesic Sensor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N2P3_T" descr=""/>
          <p:cNvPicPr/>
          <p:nvPr/>
        </p:nvPicPr>
        <p:blipFill>
          <a:blip r:embed="rId2"/>
          <a:stretch/>
        </p:blipFill>
        <p:spPr>
          <a:xfrm>
            <a:off x="1982880" y="1581120"/>
            <a:ext cx="4095720" cy="4113360"/>
          </a:xfrm>
          <a:prstGeom prst="rect">
            <a:avLst/>
          </a:prstGeom>
          <a:ln w="0">
            <a:noFill/>
          </a:ln>
        </p:spPr>
      </p:pic>
      <p:pic>
        <p:nvPicPr>
          <p:cNvPr id="377" name="N2P3_T-GSN128" descr=""/>
          <p:cNvPicPr/>
          <p:nvPr/>
        </p:nvPicPr>
        <p:blipFill>
          <a:blip r:embed="rId3"/>
          <a:stretch/>
        </p:blipFill>
        <p:spPr>
          <a:xfrm>
            <a:off x="6224760" y="3600360"/>
            <a:ext cx="4095720" cy="21020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557440" y="5670720"/>
            <a:ext cx="1019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8720" y="567072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695a4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 = 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13080" y="5884920"/>
            <a:ext cx="116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Syst x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38440" y="588492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695a4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 = 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59040" y="6099120"/>
            <a:ext cx="171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Syst x Task x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37720" y="6099120"/>
            <a:ext cx="7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695a4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 = .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01720" y="6467400"/>
            <a:ext cx="155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6000">
                <a:solidFill>
                  <a:srgbClr val="0000ff"/>
                </a:solidFill>
                <a:latin typeface="Arial"/>
              </a:rPr>
              <a:t>ECap 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Task x He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37480" y="6467400"/>
            <a:ext cx="7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695a4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 = .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01720" y="6778800"/>
            <a:ext cx="1554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6000">
                <a:solidFill>
                  <a:srgbClr val="ff6600"/>
                </a:solidFill>
                <a:latin typeface="Arial"/>
              </a:rPr>
              <a:t>GSN 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Task x He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37480" y="6778800"/>
            <a:ext cx="7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695a4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 = .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966600" y="6438960"/>
            <a:ext cx="493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20920" y="6477120"/>
            <a:ext cx="191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6000">
                <a:solidFill>
                  <a:srgbClr val="0000ff"/>
                </a:solidFill>
                <a:latin typeface="Arial"/>
              </a:rPr>
              <a:t>ECap 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Task x Hemi x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56280" y="6477120"/>
            <a:ext cx="83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695a4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 = .0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20920" y="6788160"/>
            <a:ext cx="191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6000">
                <a:solidFill>
                  <a:srgbClr val="ff6600"/>
                </a:solidFill>
                <a:latin typeface="Arial"/>
              </a:rPr>
              <a:t>GSN 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Task x Hemi x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56280" y="6788160"/>
            <a:ext cx="83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695a4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 = .0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N2P3%20Task%20x%20Response%20for%20Targets" descr=""/>
          <p:cNvPicPr/>
          <p:nvPr/>
        </p:nvPicPr>
        <p:blipFill>
          <a:blip r:embed="rId1"/>
          <a:stretch/>
        </p:blipFill>
        <p:spPr>
          <a:xfrm>
            <a:off x="3189240" y="1644480"/>
            <a:ext cx="5613480" cy="40737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3276720" y="1270080"/>
            <a:ext cx="12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ft Pr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127008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5600" y="3340080"/>
            <a:ext cx="139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Geodesic Sensor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305400" y="1270080"/>
            <a:ext cx="16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lent Cou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82800" y="2479680"/>
            <a:ext cx="10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49600" y="4511520"/>
            <a:ext cx="13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2120" y="304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RP Topograph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 N2/P3 Amplitude (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Targ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N2P3load" descr=""/>
          <p:cNvPicPr/>
          <p:nvPr/>
        </p:nvPicPr>
        <p:blipFill>
          <a:blip r:embed="rId2"/>
          <a:stretch/>
        </p:blipFill>
        <p:spPr>
          <a:xfrm>
            <a:off x="7988400" y="279360"/>
            <a:ext cx="2697120" cy="1314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9435960" y="1172520"/>
            <a:ext cx="124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P380+P300) – (N2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473040" y="4354560"/>
            <a:ext cx="9364680" cy="2533680"/>
            <a:chOff x="473040" y="4354560"/>
            <a:chExt cx="9364680" cy="2533680"/>
          </a:xfrm>
        </p:grpSpPr>
        <p:pic>
          <p:nvPicPr>
            <p:cNvPr id="45" name="N210" descr=""/>
            <p:cNvPicPr/>
            <p:nvPr/>
          </p:nvPicPr>
          <p:blipFill>
            <a:blip r:embed="rId1"/>
            <a:stretch/>
          </p:blipFill>
          <p:spPr>
            <a:xfrm>
              <a:off x="6337440" y="4354560"/>
              <a:ext cx="3500280" cy="25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73040" y="4505400"/>
              <a:ext cx="139680" cy="13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8880" y="4390920"/>
              <a:ext cx="5651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ese task-specific ERP asymmetries interact with response hand in an unbalanced fash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746640" y="641520"/>
            <a:ext cx="9464040" cy="501480"/>
            <a:chOff x="746640" y="641520"/>
            <a:chExt cx="9464040" cy="501480"/>
          </a:xfrm>
        </p:grpSpPr>
        <p:sp>
          <p:nvSpPr>
            <p:cNvPr id="49" name=""/>
            <p:cNvSpPr/>
            <p:nvPr/>
          </p:nvSpPr>
          <p:spPr>
            <a:xfrm>
              <a:off x="746640" y="641520"/>
              <a:ext cx="166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ckgro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2120" y="1143000"/>
              <a:ext cx="9448560" cy="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1600" y="1374840"/>
            <a:ext cx="9880560" cy="5447520"/>
            <a:chOff x="471600" y="1374840"/>
            <a:chExt cx="9880560" cy="5447520"/>
          </a:xfrm>
        </p:grpSpPr>
        <p:grpSp>
          <p:nvGrpSpPr>
            <p:cNvPr id="52" name=""/>
            <p:cNvGrpSpPr/>
            <p:nvPr/>
          </p:nvGrpSpPr>
          <p:grpSpPr>
            <a:xfrm>
              <a:off x="6110280" y="2131920"/>
              <a:ext cx="4241880" cy="1774800"/>
              <a:chOff x="6110280" y="2131920"/>
              <a:chExt cx="4241880" cy="1774800"/>
            </a:xfrm>
          </p:grpSpPr>
          <p:pic>
            <p:nvPicPr>
              <p:cNvPr id="53" name="N2P3%20tonal%20phonetic" descr=""/>
              <p:cNvPicPr/>
              <p:nvPr/>
            </p:nvPicPr>
            <p:blipFill>
              <a:blip r:embed="rId2"/>
              <a:stretch/>
            </p:blipFill>
            <p:spPr>
              <a:xfrm>
                <a:off x="6110280" y="2397240"/>
                <a:ext cx="2560680" cy="131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N2P3%20tonal%20minus%20phonetic" descr=""/>
              <p:cNvPicPr/>
              <p:nvPr/>
            </p:nvPicPr>
            <p:blipFill>
              <a:blip r:embed="rId3"/>
              <a:stretch/>
            </p:blipFill>
            <p:spPr>
              <a:xfrm>
                <a:off x="8774280" y="2349720"/>
                <a:ext cx="1577880" cy="131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6321960" y="3635280"/>
                <a:ext cx="588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205400" y="3635280"/>
                <a:ext cx="8262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net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672400" y="3635280"/>
                <a:ext cx="14734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nal - Phonet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510320" y="2131920"/>
                <a:ext cx="14734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2/P3 Amplitu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954000" y="2655720"/>
              <a:ext cx="4653360" cy="332280"/>
              <a:chOff x="954000" y="2655720"/>
              <a:chExt cx="4653360" cy="332280"/>
            </a:xfrm>
          </p:grpSpPr>
          <p:sp>
            <p:nvSpPr>
              <p:cNvPr id="60" name=""/>
              <p:cNvSpPr/>
              <p:nvPr/>
            </p:nvSpPr>
            <p:spPr>
              <a:xfrm>
                <a:off x="954000" y="2820960"/>
                <a:ext cx="30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367640" y="2655720"/>
                <a:ext cx="42397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itch discrimination (right frontotemporal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954000" y="3803760"/>
              <a:ext cx="5014080" cy="332280"/>
              <a:chOff x="954000" y="3803760"/>
              <a:chExt cx="5014080" cy="332280"/>
            </a:xfrm>
          </p:grpSpPr>
          <p:sp>
            <p:nvSpPr>
              <p:cNvPr id="63" name=""/>
              <p:cNvSpPr/>
              <p:nvPr/>
            </p:nvSpPr>
            <p:spPr>
              <a:xfrm>
                <a:off x="954000" y="3969000"/>
                <a:ext cx="30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366920" y="3803760"/>
                <a:ext cx="4601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honeme discrimination (left parietotemporal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33400" y="2063880"/>
              <a:ext cx="42530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hanced N2/P3 amplitude over the right lateral-temporal region for complex t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8080" y="3197160"/>
              <a:ext cx="42530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hanced N2/P3 amplitude over the left parietal region for syll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1600" y="1488960"/>
              <a:ext cx="139680" cy="13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8880" y="1374840"/>
              <a:ext cx="8975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RPs of right-handed adults during auditory oddball tasks are characterized b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imulus-dependent N2/P3 asymmet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71560" y="6485040"/>
              <a:ext cx="43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ayser, Tenke, &amp; Bruder (1998).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Psychophysiology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, 35(5), 576-590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nke, Kayser, Fong, Leite, Towey, &amp; Bruder (1998).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Brain Topography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, 10(3), 201-210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762120" y="304920"/>
            <a:ext cx="52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RP Noise Estima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Vertex referenced to nose t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66680" y="604188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632320" y="6041880"/>
            <a:ext cx="83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695a4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 = .0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03360" y="604188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69360" y="6041880"/>
            <a:ext cx="83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695a4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 = .0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32720" y="6251400"/>
            <a:ext cx="89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757040" y="646128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Syst x 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70440" y="646128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695a4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 = 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69360" y="6251400"/>
            <a:ext cx="83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695a4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 &lt; .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233920" y="604188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901000" y="604188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695a4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 = 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63280" y="6251400"/>
            <a:ext cx="89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899920" y="6251400"/>
            <a:ext cx="83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695a4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 &lt; .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Noise" descr=""/>
          <p:cNvPicPr/>
          <p:nvPr/>
        </p:nvPicPr>
        <p:blipFill>
          <a:blip r:embed="rId1"/>
          <a:stretch/>
        </p:blipFill>
        <p:spPr>
          <a:xfrm>
            <a:off x="857160" y="1089000"/>
            <a:ext cx="9258480" cy="4781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762120" y="1143000"/>
            <a:ext cx="9448560" cy="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46640" y="641520"/>
            <a:ext cx="1708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831960" y="1268280"/>
            <a:ext cx="8820000" cy="637560"/>
            <a:chOff x="831960" y="1268280"/>
            <a:chExt cx="8820000" cy="637560"/>
          </a:xfrm>
        </p:grpSpPr>
        <p:sp>
          <p:nvSpPr>
            <p:cNvPr id="420" name=""/>
            <p:cNvSpPr/>
            <p:nvPr/>
          </p:nvSpPr>
          <p:spPr>
            <a:xfrm>
              <a:off x="1276200" y="1268280"/>
              <a:ext cx="8375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Ps were remarkably similar across the two systems for corresponding recording sites using the same refer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1960" y="1395360"/>
              <a:ext cx="139680" cy="13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831960" y="2892600"/>
            <a:ext cx="8820000" cy="637560"/>
            <a:chOff x="831960" y="2892600"/>
            <a:chExt cx="8820000" cy="637560"/>
          </a:xfrm>
        </p:grpSpPr>
        <p:sp>
          <p:nvSpPr>
            <p:cNvPr id="423" name=""/>
            <p:cNvSpPr/>
            <p:nvPr/>
          </p:nvSpPr>
          <p:spPr>
            <a:xfrm>
              <a:off x="1276200" y="2892600"/>
              <a:ext cx="8375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roved spatial resolution of the DEA montage increases confidence in the topographical find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1960" y="3019680"/>
              <a:ext cx="139680" cy="13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831960" y="3625920"/>
            <a:ext cx="5702040" cy="363240"/>
            <a:chOff x="831960" y="3625920"/>
            <a:chExt cx="5702040" cy="363240"/>
          </a:xfrm>
        </p:grpSpPr>
        <p:sp>
          <p:nvSpPr>
            <p:cNvPr id="426" name=""/>
            <p:cNvSpPr/>
            <p:nvPr/>
          </p:nvSpPr>
          <p:spPr>
            <a:xfrm>
              <a:off x="1276200" y="3625920"/>
              <a:ext cx="525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vantages come at a significant 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1960" y="3753000"/>
              <a:ext cx="139680" cy="13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831960" y="5307120"/>
            <a:ext cx="8820000" cy="363240"/>
            <a:chOff x="831960" y="5307120"/>
            <a:chExt cx="8820000" cy="363240"/>
          </a:xfrm>
        </p:grpSpPr>
        <p:sp>
          <p:nvSpPr>
            <p:cNvPr id="429" name=""/>
            <p:cNvSpPr/>
            <p:nvPr/>
          </p:nvSpPr>
          <p:spPr>
            <a:xfrm>
              <a:off x="1276200" y="5307120"/>
              <a:ext cx="837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irements for maintaining conventional standards with DEA record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31960" y="5434200"/>
              <a:ext cx="139680" cy="13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1440000" y="1839960"/>
            <a:ext cx="2400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440000" y="2155680"/>
            <a:ext cx="1954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k lat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40000" y="2471760"/>
            <a:ext cx="1807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graph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440000" y="3943440"/>
            <a:ext cx="6602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/time intensive data processing (an order of magnitude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40000" y="4259160"/>
            <a:ext cx="3235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 of subjects and/o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0000" y="4889520"/>
            <a:ext cx="2923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 in effect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0000" y="4573440"/>
            <a:ext cx="5802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S/N ratio and late ERP amplitudes (e.g., P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0000" y="5616720"/>
            <a:ext cx="4335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number of trials and/or su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40000" y="6246720"/>
            <a:ext cx="8405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new tools for data processing (including EOG correction, artifacting, replacing missing channe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40000" y="5932440"/>
            <a:ext cx="241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fficient man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762120" y="304920"/>
            <a:ext cx="53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RP Topograph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 Surface Potentials (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Targ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95960" y="3049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interval: 0 - 700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76720" y="1270080"/>
            <a:ext cx="12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ft Pr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63960" y="127008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600" y="3340080"/>
            <a:ext cx="139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Geodesic Sensor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305400" y="1270080"/>
            <a:ext cx="16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lent Cou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882800" y="2479680"/>
            <a:ext cx="10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49600" y="4511520"/>
            <a:ext cx="13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189240" y="1644480"/>
            <a:ext cx="563076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762120" y="304920"/>
            <a:ext cx="53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RP Topograph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 Local Hjorth (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Targ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95960" y="3049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interval: 0 - 695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76720" y="1270080"/>
            <a:ext cx="12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ft Pr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63960" y="127008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25600" y="3340080"/>
            <a:ext cx="139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Geodesic Sensor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05400" y="1270080"/>
            <a:ext cx="16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lent Cou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882800" y="2479680"/>
            <a:ext cx="10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49600" y="4511520"/>
            <a:ext cx="13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778960" y="2003400"/>
            <a:ext cx="10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sin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759880" y="4794120"/>
            <a:ext cx="10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3189240" y="1644480"/>
            <a:ext cx="5531040" cy="40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291960" y="1225440"/>
            <a:ext cx="5203800" cy="5291280"/>
            <a:chOff x="291960" y="1225440"/>
            <a:chExt cx="5203800" cy="5291280"/>
          </a:xfrm>
        </p:grpSpPr>
        <p:pic>
          <p:nvPicPr>
            <p:cNvPr id="71" name="A4" descr=""/>
            <p:cNvPicPr/>
            <p:nvPr/>
          </p:nvPicPr>
          <p:blipFill>
            <a:blip r:embed="rId1"/>
            <a:stretch/>
          </p:blipFill>
          <p:spPr>
            <a:xfrm>
              <a:off x="2111400" y="1225440"/>
              <a:ext cx="3382920" cy="258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Ka" descr=""/>
            <p:cNvPicPr/>
            <p:nvPr/>
          </p:nvPicPr>
          <p:blipFill>
            <a:blip r:embed="rId2"/>
            <a:stretch/>
          </p:blipFill>
          <p:spPr>
            <a:xfrm>
              <a:off x="2112840" y="3892680"/>
              <a:ext cx="3382920" cy="2624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" name=""/>
            <p:cNvGrpSpPr/>
            <p:nvPr/>
          </p:nvGrpSpPr>
          <p:grpSpPr>
            <a:xfrm>
              <a:off x="291960" y="1992240"/>
              <a:ext cx="1733760" cy="1047960"/>
              <a:chOff x="291960" y="1992240"/>
              <a:chExt cx="1733760" cy="1047960"/>
            </a:xfrm>
          </p:grpSpPr>
          <p:sp>
            <p:nvSpPr>
              <p:cNvPr id="74" name=""/>
              <p:cNvSpPr/>
              <p:nvPr/>
            </p:nvSpPr>
            <p:spPr>
              <a:xfrm>
                <a:off x="291960" y="1992240"/>
                <a:ext cx="1733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00"/>
                    </a:solidFill>
                    <a:latin typeface="Arial"/>
                  </a:rPr>
                  <a:t>Complex Ton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48200" y="2398680"/>
                <a:ext cx="142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quare wav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[444 Hz, 485 Hz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f major no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344520" y="4684680"/>
              <a:ext cx="1628640" cy="1041480"/>
              <a:chOff x="344520" y="4684680"/>
              <a:chExt cx="1628640" cy="1041480"/>
            </a:xfrm>
          </p:grpSpPr>
          <p:sp>
            <p:nvSpPr>
              <p:cNvPr id="77" name=""/>
              <p:cNvSpPr/>
              <p:nvPr/>
            </p:nvSpPr>
            <p:spPr>
              <a:xfrm>
                <a:off x="544680" y="4684680"/>
                <a:ext cx="1228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8080"/>
                    </a:solidFill>
                    <a:latin typeface="Arial"/>
                  </a:rPr>
                  <a:t>Syllabl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44520" y="5084640"/>
                <a:ext cx="16286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nsonant-vowe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[/da/, /ka/] match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or discriminabil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2120" y="304920"/>
            <a:ext cx="472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ddball Task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Tonal and Phonetic Stim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835600" y="657360"/>
            <a:ext cx="2765520" cy="5692680"/>
            <a:chOff x="5835600" y="657360"/>
            <a:chExt cx="2765520" cy="5692680"/>
          </a:xfrm>
        </p:grpSpPr>
        <p:grpSp>
          <p:nvGrpSpPr>
            <p:cNvPr id="81" name=""/>
            <p:cNvGrpSpPr/>
            <p:nvPr/>
          </p:nvGrpSpPr>
          <p:grpSpPr>
            <a:xfrm>
              <a:off x="5861160" y="1771560"/>
              <a:ext cx="533160" cy="438120"/>
              <a:chOff x="5861160" y="1771560"/>
              <a:chExt cx="533160" cy="438120"/>
            </a:xfrm>
          </p:grpSpPr>
          <p:sp>
            <p:nvSpPr>
              <p:cNvPr id="82" name=""/>
              <p:cNvSpPr/>
              <p:nvPr/>
            </p:nvSpPr>
            <p:spPr>
              <a:xfrm>
                <a:off x="5861160" y="1827000"/>
                <a:ext cx="533160" cy="382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972040" y="1771560"/>
                <a:ext cx="33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6083280" y="2058840"/>
              <a:ext cx="536760" cy="382680"/>
              <a:chOff x="6083280" y="2058840"/>
              <a:chExt cx="536760" cy="382680"/>
            </a:xfrm>
          </p:grpSpPr>
          <p:sp>
            <p:nvSpPr>
              <p:cNvPr id="85" name=""/>
              <p:cNvSpPr/>
              <p:nvPr/>
            </p:nvSpPr>
            <p:spPr>
              <a:xfrm>
                <a:off x="6083280" y="2058840"/>
                <a:ext cx="533520" cy="38268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310440" y="206388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7" name="note3" descr=""/>
              <p:cNvPicPr/>
              <p:nvPr/>
            </p:nvPicPr>
            <p:blipFill>
              <a:blip r:embed="rId3"/>
              <a:stretch/>
            </p:blipFill>
            <p:spPr>
              <a:xfrm>
                <a:off x="6181560" y="2157480"/>
                <a:ext cx="190800" cy="247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" name=""/>
            <p:cNvGrpSpPr/>
            <p:nvPr/>
          </p:nvGrpSpPr>
          <p:grpSpPr>
            <a:xfrm>
              <a:off x="6523200" y="657360"/>
              <a:ext cx="1253520" cy="473040"/>
              <a:chOff x="6523200" y="657360"/>
              <a:chExt cx="1253520" cy="473040"/>
            </a:xfrm>
          </p:grpSpPr>
          <p:sp>
            <p:nvSpPr>
              <p:cNvPr id="89" name=""/>
              <p:cNvSpPr/>
              <p:nvPr/>
            </p:nvSpPr>
            <p:spPr>
              <a:xfrm>
                <a:off x="6526080" y="853920"/>
                <a:ext cx="1152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cc0000"/>
                    </a:solidFill>
                    <a:latin typeface="Arial"/>
                  </a:rPr>
                  <a:t>20% targ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23200" y="657360"/>
                <a:ext cx="1253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9966"/>
                    </a:solidFill>
                    <a:latin typeface="Arial"/>
                  </a:rPr>
                  <a:t>80% nontarg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V="1">
              <a:off x="7815240" y="2793600"/>
              <a:ext cx="182520" cy="3970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34320" y="2387520"/>
              <a:ext cx="479160" cy="31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64080" y="1800360"/>
              <a:ext cx="77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Arial"/>
                </a:rPr>
                <a:t>binau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835600" y="4470480"/>
              <a:ext cx="533520" cy="438120"/>
              <a:chOff x="5835600" y="4470480"/>
              <a:chExt cx="533520" cy="438120"/>
            </a:xfrm>
          </p:grpSpPr>
          <p:sp>
            <p:nvSpPr>
              <p:cNvPr id="95" name=""/>
              <p:cNvSpPr/>
              <p:nvPr/>
            </p:nvSpPr>
            <p:spPr>
              <a:xfrm>
                <a:off x="5835600" y="4525920"/>
                <a:ext cx="533520" cy="382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946840" y="4470480"/>
                <a:ext cx="33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054840" y="4737240"/>
              <a:ext cx="533160" cy="387360"/>
              <a:chOff x="6054840" y="4737240"/>
              <a:chExt cx="533160" cy="387360"/>
            </a:xfrm>
          </p:grpSpPr>
          <p:sp>
            <p:nvSpPr>
              <p:cNvPr id="98" name=""/>
              <p:cNvSpPr/>
              <p:nvPr/>
            </p:nvSpPr>
            <p:spPr>
              <a:xfrm>
                <a:off x="6054840" y="4741920"/>
                <a:ext cx="533160" cy="38268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089400" y="4737240"/>
                <a:ext cx="489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/da/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242040" y="4983120"/>
              <a:ext cx="533160" cy="382680"/>
              <a:chOff x="6242040" y="4983120"/>
              <a:chExt cx="533160" cy="382680"/>
            </a:xfrm>
          </p:grpSpPr>
          <p:sp>
            <p:nvSpPr>
              <p:cNvPr id="101" name=""/>
              <p:cNvSpPr/>
              <p:nvPr/>
            </p:nvSpPr>
            <p:spPr>
              <a:xfrm>
                <a:off x="6242040" y="4983120"/>
                <a:ext cx="533160" cy="38268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76600" y="4991040"/>
                <a:ext cx="480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/ka/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 flipV="1">
              <a:off x="7500960" y="5517720"/>
              <a:ext cx="245880" cy="381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45400" y="5111640"/>
              <a:ext cx="619200" cy="507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38520" y="4498920"/>
              <a:ext cx="77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Arial"/>
                </a:rPr>
                <a:t>binau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6319800" y="2270160"/>
              <a:ext cx="536400" cy="402840"/>
              <a:chOff x="6319800" y="2270160"/>
              <a:chExt cx="536400" cy="402840"/>
            </a:xfrm>
          </p:grpSpPr>
          <p:sp>
            <p:nvSpPr>
              <p:cNvPr id="107" name=""/>
              <p:cNvSpPr/>
              <p:nvPr/>
            </p:nvSpPr>
            <p:spPr>
              <a:xfrm>
                <a:off x="6319800" y="2290680"/>
                <a:ext cx="533160" cy="38232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546600" y="227016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9" name="note3" descr=""/>
              <p:cNvPicPr/>
              <p:nvPr/>
            </p:nvPicPr>
            <p:blipFill>
              <a:blip r:embed="rId4"/>
              <a:stretch/>
            </p:blipFill>
            <p:spPr>
              <a:xfrm>
                <a:off x="6405480" y="2342880"/>
                <a:ext cx="19044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" name=""/>
            <p:cNvGrpSpPr/>
            <p:nvPr/>
          </p:nvGrpSpPr>
          <p:grpSpPr>
            <a:xfrm>
              <a:off x="6546960" y="2496960"/>
              <a:ext cx="536400" cy="382680"/>
              <a:chOff x="6546960" y="2496960"/>
              <a:chExt cx="536400" cy="382680"/>
            </a:xfrm>
          </p:grpSpPr>
          <p:sp>
            <p:nvSpPr>
              <p:cNvPr id="111" name=""/>
              <p:cNvSpPr/>
              <p:nvPr/>
            </p:nvSpPr>
            <p:spPr>
              <a:xfrm>
                <a:off x="6546960" y="2496960"/>
                <a:ext cx="533160" cy="38268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73760" y="250200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3" name="note3" descr=""/>
              <p:cNvPicPr/>
              <p:nvPr/>
            </p:nvPicPr>
            <p:blipFill>
              <a:blip r:embed="rId5"/>
              <a:stretch/>
            </p:blipFill>
            <p:spPr>
              <a:xfrm>
                <a:off x="6644880" y="2595600"/>
                <a:ext cx="190440" cy="247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6788160" y="2738520"/>
              <a:ext cx="536400" cy="382680"/>
              <a:chOff x="6788160" y="2738520"/>
              <a:chExt cx="536400" cy="382680"/>
            </a:xfrm>
          </p:grpSpPr>
          <p:sp>
            <p:nvSpPr>
              <p:cNvPr id="115" name=""/>
              <p:cNvSpPr/>
              <p:nvPr/>
            </p:nvSpPr>
            <p:spPr>
              <a:xfrm>
                <a:off x="6788160" y="2738520"/>
                <a:ext cx="533160" cy="38268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014960" y="274356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" name="note3" descr=""/>
              <p:cNvPicPr/>
              <p:nvPr/>
            </p:nvPicPr>
            <p:blipFill>
              <a:blip r:embed="rId6"/>
              <a:stretch/>
            </p:blipFill>
            <p:spPr>
              <a:xfrm>
                <a:off x="6886080" y="2837160"/>
                <a:ext cx="190440" cy="247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" name=""/>
            <p:cNvGrpSpPr/>
            <p:nvPr/>
          </p:nvGrpSpPr>
          <p:grpSpPr>
            <a:xfrm>
              <a:off x="7029360" y="2979720"/>
              <a:ext cx="536760" cy="382680"/>
              <a:chOff x="7029360" y="2979720"/>
              <a:chExt cx="536760" cy="382680"/>
            </a:xfrm>
          </p:grpSpPr>
          <p:sp>
            <p:nvSpPr>
              <p:cNvPr id="119" name=""/>
              <p:cNvSpPr/>
              <p:nvPr/>
            </p:nvSpPr>
            <p:spPr>
              <a:xfrm>
                <a:off x="7029360" y="2979720"/>
                <a:ext cx="533520" cy="38268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256520" y="298476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1" name="note3" descr=""/>
              <p:cNvPicPr/>
              <p:nvPr/>
            </p:nvPicPr>
            <p:blipFill>
              <a:blip r:embed="rId7"/>
              <a:stretch/>
            </p:blipFill>
            <p:spPr>
              <a:xfrm>
                <a:off x="7127640" y="3078360"/>
                <a:ext cx="190800" cy="247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2" name=""/>
            <p:cNvSpPr/>
            <p:nvPr/>
          </p:nvSpPr>
          <p:spPr>
            <a:xfrm>
              <a:off x="7494480" y="1851120"/>
              <a:ext cx="1106640" cy="87984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Left P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81d58"/>
                  </a:solidFill>
                  <a:latin typeface="Arial"/>
                </a:rPr>
                <a:t>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Right P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81d58"/>
                  </a:solidFill>
                  <a:latin typeface="Arial"/>
                </a:rPr>
                <a:t>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Silent Cou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94480" y="4568760"/>
              <a:ext cx="1106640" cy="87984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Left P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81d58"/>
                  </a:solidFill>
                  <a:latin typeface="Arial"/>
                </a:rPr>
                <a:t>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Right P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81d58"/>
                  </a:solidFill>
                  <a:latin typeface="Arial"/>
                </a:rPr>
                <a:t>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Silent Cou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7278840" y="3197160"/>
              <a:ext cx="536400" cy="402840"/>
              <a:chOff x="7278840" y="3197160"/>
              <a:chExt cx="536400" cy="402840"/>
            </a:xfrm>
          </p:grpSpPr>
          <p:sp>
            <p:nvSpPr>
              <p:cNvPr id="125" name=""/>
              <p:cNvSpPr/>
              <p:nvPr/>
            </p:nvSpPr>
            <p:spPr>
              <a:xfrm>
                <a:off x="7278840" y="3217680"/>
                <a:ext cx="533160" cy="38232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505640" y="319716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7" name="note3" descr=""/>
              <p:cNvPicPr/>
              <p:nvPr/>
            </p:nvPicPr>
            <p:blipFill>
              <a:blip r:embed="rId8"/>
              <a:stretch/>
            </p:blipFill>
            <p:spPr>
              <a:xfrm>
                <a:off x="7364520" y="3269880"/>
                <a:ext cx="19044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" name=""/>
            <p:cNvGrpSpPr/>
            <p:nvPr/>
          </p:nvGrpSpPr>
          <p:grpSpPr>
            <a:xfrm>
              <a:off x="6397560" y="5226120"/>
              <a:ext cx="533520" cy="387360"/>
              <a:chOff x="6397560" y="5226120"/>
              <a:chExt cx="533520" cy="387360"/>
            </a:xfrm>
          </p:grpSpPr>
          <p:sp>
            <p:nvSpPr>
              <p:cNvPr id="129" name=""/>
              <p:cNvSpPr/>
              <p:nvPr/>
            </p:nvSpPr>
            <p:spPr>
              <a:xfrm>
                <a:off x="6397560" y="5230800"/>
                <a:ext cx="533520" cy="38268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32480" y="5226120"/>
                <a:ext cx="489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/da/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562800" y="5473800"/>
              <a:ext cx="533160" cy="387360"/>
              <a:chOff x="6562800" y="5473800"/>
              <a:chExt cx="533160" cy="387360"/>
            </a:xfrm>
          </p:grpSpPr>
          <p:sp>
            <p:nvSpPr>
              <p:cNvPr id="132" name=""/>
              <p:cNvSpPr/>
              <p:nvPr/>
            </p:nvSpPr>
            <p:spPr>
              <a:xfrm>
                <a:off x="6562800" y="5478480"/>
                <a:ext cx="533160" cy="38268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597360" y="5473800"/>
                <a:ext cx="489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/da/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734160" y="5721480"/>
              <a:ext cx="533520" cy="387360"/>
              <a:chOff x="6734160" y="5721480"/>
              <a:chExt cx="533520" cy="387360"/>
            </a:xfrm>
          </p:grpSpPr>
          <p:sp>
            <p:nvSpPr>
              <p:cNvPr id="135" name=""/>
              <p:cNvSpPr/>
              <p:nvPr/>
            </p:nvSpPr>
            <p:spPr>
              <a:xfrm>
                <a:off x="6734160" y="5726160"/>
                <a:ext cx="533520" cy="38268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769080" y="5721480"/>
                <a:ext cx="489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/da/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921360" y="5967360"/>
              <a:ext cx="533160" cy="382680"/>
              <a:chOff x="6921360" y="5967360"/>
              <a:chExt cx="533160" cy="382680"/>
            </a:xfrm>
          </p:grpSpPr>
          <p:sp>
            <p:nvSpPr>
              <p:cNvPr id="138" name=""/>
              <p:cNvSpPr/>
              <p:nvPr/>
            </p:nvSpPr>
            <p:spPr>
              <a:xfrm>
                <a:off x="6921360" y="5967360"/>
                <a:ext cx="533160" cy="38268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955920" y="5975280"/>
                <a:ext cx="480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/ka/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8690040" y="3378240"/>
            <a:ext cx="1998720" cy="992520"/>
            <a:chOff x="8690040" y="3378240"/>
            <a:chExt cx="1998720" cy="992520"/>
          </a:xfrm>
        </p:grpSpPr>
        <p:sp>
          <p:nvSpPr>
            <p:cNvPr id="141" name=""/>
            <p:cNvSpPr/>
            <p:nvPr/>
          </p:nvSpPr>
          <p:spPr>
            <a:xfrm>
              <a:off x="8690040" y="3378240"/>
              <a:ext cx="168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60 trials 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 blocks (80 trial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92920" y="3911760"/>
              <a:ext cx="1995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2 targets/cond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8 nontargets/cond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925560" y="592200"/>
            <a:ext cx="3443400" cy="1303200"/>
            <a:chOff x="925560" y="592200"/>
            <a:chExt cx="3443400" cy="1303200"/>
          </a:xfrm>
        </p:grpSpPr>
        <p:pic>
          <p:nvPicPr>
            <p:cNvPr id="144" name="ElectroCap" descr=""/>
            <p:cNvPicPr/>
            <p:nvPr/>
          </p:nvPicPr>
          <p:blipFill>
            <a:blip r:embed="rId1"/>
            <a:stretch/>
          </p:blipFill>
          <p:spPr>
            <a:xfrm>
              <a:off x="2631960" y="592200"/>
              <a:ext cx="173700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925560" y="954000"/>
              <a:ext cx="1501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ElectroC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(30-channe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 flipV="1">
            <a:off x="4746600" y="1241280"/>
            <a:ext cx="527040" cy="5040"/>
          </a:xfrm>
          <a:prstGeom prst="line">
            <a:avLst/>
          </a:prstGeom>
          <a:ln w="38160">
            <a:solidFill>
              <a:srgbClr val="5f5f5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651640" y="579600"/>
            <a:ext cx="4201920" cy="1328400"/>
            <a:chOff x="5651640" y="579600"/>
            <a:chExt cx="4201920" cy="1328400"/>
          </a:xfrm>
        </p:grpSpPr>
        <p:sp>
          <p:nvSpPr>
            <p:cNvPr id="148" name=""/>
            <p:cNvSpPr/>
            <p:nvPr/>
          </p:nvSpPr>
          <p:spPr>
            <a:xfrm>
              <a:off x="5651640" y="952200"/>
              <a:ext cx="228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Geodesic Sensor 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(128-channe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GSN" descr=""/>
            <p:cNvPicPr/>
            <p:nvPr/>
          </p:nvPicPr>
          <p:blipFill>
            <a:blip r:embed="rId2"/>
            <a:stretch/>
          </p:blipFill>
          <p:spPr>
            <a:xfrm>
              <a:off x="8143920" y="579600"/>
              <a:ext cx="1709640" cy="13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762120" y="304920"/>
            <a:ext cx="29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Number%20of%20Trials" descr=""/>
          <p:cNvPicPr/>
          <p:nvPr/>
        </p:nvPicPr>
        <p:blipFill>
          <a:blip r:embed="rId3"/>
          <a:stretch/>
        </p:blipFill>
        <p:spPr>
          <a:xfrm>
            <a:off x="4325760" y="4575240"/>
            <a:ext cx="5886720" cy="216540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4871520" y="2506320"/>
            <a:ext cx="2769480" cy="1260720"/>
            <a:chOff x="4871520" y="2506320"/>
            <a:chExt cx="2769480" cy="1260720"/>
          </a:xfrm>
        </p:grpSpPr>
        <p:sp>
          <p:nvSpPr>
            <p:cNvPr id="153" name=""/>
            <p:cNvSpPr/>
            <p:nvPr/>
          </p:nvSpPr>
          <p:spPr>
            <a:xfrm>
              <a:off x="4871520" y="2978280"/>
              <a:ext cx="276948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114480" indent="-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800000"/>
                  </a:solidFill>
                  <a:uFillTx/>
                  <a:latin typeface="Arial"/>
                </a:rPr>
                <a:t>Minimum 14 trials/cond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ElectroCap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GSN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5973840" y="2506320"/>
              <a:ext cx="527040" cy="468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762120" y="2209680"/>
            <a:ext cx="3471840" cy="2182320"/>
            <a:chOff x="762120" y="2209680"/>
            <a:chExt cx="3471840" cy="2182320"/>
          </a:xfrm>
        </p:grpSpPr>
        <p:sp>
          <p:nvSpPr>
            <p:cNvPr id="156" name=""/>
            <p:cNvSpPr/>
            <p:nvPr/>
          </p:nvSpPr>
          <p:spPr>
            <a:xfrm>
              <a:off x="897840" y="2927520"/>
              <a:ext cx="89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n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96760" y="3352680"/>
              <a:ext cx="168912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g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 baseline="-14000">
                  <a:solidFill>
                    <a:srgbClr val="000000"/>
                  </a:solidFill>
                  <a:latin typeface="Arial"/>
                </a:rPr>
                <a:t>(21 – 41 yr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97840" y="3816360"/>
              <a:ext cx="15681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andedn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Oldfield, 19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120" y="2209680"/>
              <a:ext cx="290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articipa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09160" y="3382920"/>
              <a:ext cx="1082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7.8  ±6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98720" y="2800440"/>
              <a:ext cx="11048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 fem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 m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53720" y="3963960"/>
              <a:ext cx="119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9.7  ±22.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57840" y="2343240"/>
              <a:ext cx="784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 = 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79840" y="2724120"/>
              <a:ext cx="1554120" cy="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8229600" y="2343240"/>
            <a:ext cx="1554120" cy="1953000"/>
            <a:chOff x="8229600" y="2343240"/>
            <a:chExt cx="1554120" cy="1953000"/>
          </a:xfrm>
        </p:grpSpPr>
        <p:sp>
          <p:nvSpPr>
            <p:cNvPr id="166" name=""/>
            <p:cNvSpPr/>
            <p:nvPr/>
          </p:nvSpPr>
          <p:spPr>
            <a:xfrm>
              <a:off x="8484480" y="3382920"/>
              <a:ext cx="1082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6.5  ±6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74760" y="2800440"/>
              <a:ext cx="11048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 fem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1 m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29040" y="3963960"/>
              <a:ext cx="119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7.5  ±24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33160" y="2343240"/>
              <a:ext cx="784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 = 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29600" y="2724120"/>
              <a:ext cx="1554120" cy="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62120" y="30492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ata Recording and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56600" y="515880"/>
            <a:ext cx="25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Geodesic Sensor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86280" y="515880"/>
            <a:ext cx="13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lectro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344960" y="1706400"/>
            <a:ext cx="8161200" cy="484560"/>
            <a:chOff x="1344960" y="1706400"/>
            <a:chExt cx="8161200" cy="484560"/>
          </a:xfrm>
        </p:grpSpPr>
        <p:sp>
          <p:nvSpPr>
            <p:cNvPr id="175" name=""/>
            <p:cNvSpPr/>
            <p:nvPr/>
          </p:nvSpPr>
          <p:spPr>
            <a:xfrm>
              <a:off x="1344960" y="1782720"/>
              <a:ext cx="116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24960" y="1798560"/>
              <a:ext cx="86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se t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19840" y="1706400"/>
              <a:ext cx="178632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ert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#17 moved to nose t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347120" y="2327400"/>
            <a:ext cx="8462160" cy="332280"/>
            <a:chOff x="1347120" y="2327400"/>
            <a:chExt cx="8462160" cy="332280"/>
          </a:xfrm>
        </p:grpSpPr>
        <p:sp>
          <p:nvSpPr>
            <p:cNvPr id="179" name=""/>
            <p:cNvSpPr/>
            <p:nvPr/>
          </p:nvSpPr>
          <p:spPr>
            <a:xfrm>
              <a:off x="1347120" y="2327400"/>
              <a:ext cx="1385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ipolar E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2343240"/>
              <a:ext cx="1209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OG lea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18520" y="2343240"/>
              <a:ext cx="2390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om facial EEG lea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347120" y="2870280"/>
            <a:ext cx="8393760" cy="332280"/>
            <a:chOff x="1347120" y="2870280"/>
            <a:chExt cx="8393760" cy="332280"/>
          </a:xfrm>
        </p:grpSpPr>
        <p:sp>
          <p:nvSpPr>
            <p:cNvPr id="183" name=""/>
            <p:cNvSpPr/>
            <p:nvPr/>
          </p:nvSpPr>
          <p:spPr>
            <a:xfrm>
              <a:off x="1347120" y="2870280"/>
              <a:ext cx="1621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orage form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97880" y="2886120"/>
              <a:ext cx="1120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uroSc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7485840" y="2884320"/>
              <a:ext cx="2255040" cy="303480"/>
              <a:chOff x="7485840" y="2884320"/>
              <a:chExt cx="2255040" cy="303480"/>
            </a:xfrm>
          </p:grpSpPr>
          <p:sp>
            <p:nvSpPr>
              <p:cNvPr id="186" name=""/>
              <p:cNvSpPr/>
              <p:nvPr/>
            </p:nvSpPr>
            <p:spPr>
              <a:xfrm>
                <a:off x="8620560" y="2884320"/>
                <a:ext cx="11203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euroSc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8047080" y="30254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85840" y="2885760"/>
                <a:ext cx="489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G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350000" y="3413160"/>
            <a:ext cx="8321400" cy="332280"/>
            <a:chOff x="1350000" y="3413160"/>
            <a:chExt cx="8321400" cy="332280"/>
          </a:xfrm>
        </p:grpSpPr>
        <p:sp>
          <p:nvSpPr>
            <p:cNvPr id="190" name=""/>
            <p:cNvSpPr/>
            <p:nvPr/>
          </p:nvSpPr>
          <p:spPr>
            <a:xfrm>
              <a:off x="1350000" y="3413160"/>
              <a:ext cx="174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itial artifa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78560" y="3429000"/>
              <a:ext cx="1757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ipped epoch/tr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56040" y="3429000"/>
              <a:ext cx="2115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ipped epoch/trial/s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350000" y="4710240"/>
            <a:ext cx="7400160" cy="545400"/>
            <a:chOff x="1350000" y="4710240"/>
            <a:chExt cx="7400160" cy="545400"/>
          </a:xfrm>
        </p:grpSpPr>
        <p:sp>
          <p:nvSpPr>
            <p:cNvPr id="194" name=""/>
            <p:cNvSpPr/>
            <p:nvPr/>
          </p:nvSpPr>
          <p:spPr>
            <a:xfrm>
              <a:off x="1350000" y="4710240"/>
              <a:ext cx="277056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active blink cor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linear regressi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5" name="Fpwchk" descr=""/>
            <p:cNvPicPr/>
            <p:nvPr/>
          </p:nvPicPr>
          <p:blipFill>
            <a:blip r:embed="rId1"/>
            <a:stretch/>
          </p:blipFill>
          <p:spPr>
            <a:xfrm>
              <a:off x="5419800" y="4844880"/>
              <a:ext cx="2746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Fpwchk" descr=""/>
            <p:cNvPicPr/>
            <p:nvPr/>
          </p:nvPicPr>
          <p:blipFill>
            <a:blip r:embed="rId2"/>
            <a:stretch/>
          </p:blipFill>
          <p:spPr>
            <a:xfrm>
              <a:off x="8475840" y="4844880"/>
              <a:ext cx="27432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"/>
          <p:cNvGrpSpPr/>
          <p:nvPr/>
        </p:nvGrpSpPr>
        <p:grpSpPr>
          <a:xfrm>
            <a:off x="1337400" y="3954600"/>
            <a:ext cx="7412760" cy="545400"/>
            <a:chOff x="1337400" y="3954600"/>
            <a:chExt cx="7412760" cy="545400"/>
          </a:xfrm>
        </p:grpSpPr>
        <p:sp>
          <p:nvSpPr>
            <p:cNvPr id="198" name=""/>
            <p:cNvSpPr/>
            <p:nvPr/>
          </p:nvSpPr>
          <p:spPr>
            <a:xfrm>
              <a:off x="1337400" y="3954600"/>
              <a:ext cx="208656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ff-line filt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 Hz / 24 dB low p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9" name="Fpwchk" descr=""/>
            <p:cNvPicPr/>
            <p:nvPr/>
          </p:nvPicPr>
          <p:blipFill>
            <a:blip r:embed="rId3"/>
            <a:stretch/>
          </p:blipFill>
          <p:spPr>
            <a:xfrm>
              <a:off x="5419800" y="4089240"/>
              <a:ext cx="2746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Fpwchk" descr=""/>
            <p:cNvPicPr/>
            <p:nvPr/>
          </p:nvPicPr>
          <p:blipFill>
            <a:blip r:embed="rId4"/>
            <a:stretch/>
          </p:blipFill>
          <p:spPr>
            <a:xfrm>
              <a:off x="8475840" y="4089240"/>
              <a:ext cx="27432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"/>
          <p:cNvGrpSpPr/>
          <p:nvPr/>
        </p:nvGrpSpPr>
        <p:grpSpPr>
          <a:xfrm>
            <a:off x="1345320" y="6551640"/>
            <a:ext cx="7700040" cy="332280"/>
            <a:chOff x="1345320" y="6551640"/>
            <a:chExt cx="7700040" cy="332280"/>
          </a:xfrm>
        </p:grpSpPr>
        <p:sp>
          <p:nvSpPr>
            <p:cNvPr id="202" name=""/>
            <p:cNvSpPr/>
            <p:nvPr/>
          </p:nvSpPr>
          <p:spPr>
            <a:xfrm>
              <a:off x="1345320" y="6551640"/>
              <a:ext cx="1420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-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81000" y="6567480"/>
              <a:ext cx="86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se t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347120" y="5254560"/>
            <a:ext cx="9578160" cy="697680"/>
            <a:chOff x="1347120" y="5254560"/>
            <a:chExt cx="9578160" cy="697680"/>
          </a:xfrm>
        </p:grpSpPr>
        <p:sp>
          <p:nvSpPr>
            <p:cNvPr id="205" name=""/>
            <p:cNvSpPr/>
            <p:nvPr/>
          </p:nvSpPr>
          <p:spPr>
            <a:xfrm>
              <a:off x="1347120" y="5435640"/>
              <a:ext cx="1193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tifa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33960" y="5451480"/>
              <a:ext cx="847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±100 µ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00720" y="5254560"/>
              <a:ext cx="4624560" cy="6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lag artifacts (100 µV threshol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active editing of EEG epoch/trial/site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reject or replace after visual analysis of complete EEG montag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344600" y="6008760"/>
            <a:ext cx="7405560" cy="332280"/>
            <a:chOff x="1344600" y="6008760"/>
            <a:chExt cx="7405560" cy="332280"/>
          </a:xfrm>
        </p:grpSpPr>
        <p:sp>
          <p:nvSpPr>
            <p:cNvPr id="209" name=""/>
            <p:cNvSpPr/>
            <p:nvPr/>
          </p:nvSpPr>
          <p:spPr>
            <a:xfrm>
              <a:off x="1344600" y="6008760"/>
              <a:ext cx="161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RP avera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0" name="Fpwchk" descr=""/>
            <p:cNvPicPr/>
            <p:nvPr/>
          </p:nvPicPr>
          <p:blipFill>
            <a:blip r:embed="rId5"/>
            <a:stretch/>
          </p:blipFill>
          <p:spPr>
            <a:xfrm>
              <a:off x="5419800" y="6037200"/>
              <a:ext cx="2746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Fpwchk" descr=""/>
            <p:cNvPicPr/>
            <p:nvPr/>
          </p:nvPicPr>
          <p:blipFill>
            <a:blip r:embed="rId6"/>
            <a:stretch/>
          </p:blipFill>
          <p:spPr>
            <a:xfrm>
              <a:off x="8475840" y="6037200"/>
              <a:ext cx="27432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1377000" y="1359000"/>
            <a:ext cx="7373160" cy="302040"/>
            <a:chOff x="1377000" y="1359000"/>
            <a:chExt cx="7373160" cy="302040"/>
          </a:xfrm>
        </p:grpSpPr>
        <p:pic>
          <p:nvPicPr>
            <p:cNvPr id="213" name="Fpwchk" descr=""/>
            <p:cNvPicPr/>
            <p:nvPr/>
          </p:nvPicPr>
          <p:blipFill>
            <a:blip r:embed="rId7"/>
            <a:stretch/>
          </p:blipFill>
          <p:spPr>
            <a:xfrm>
              <a:off x="5419800" y="1373040"/>
              <a:ext cx="2746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Fpwchk" descr=""/>
            <p:cNvPicPr/>
            <p:nvPr/>
          </p:nvPicPr>
          <p:blipFill>
            <a:blip r:embed="rId8"/>
            <a:stretch/>
          </p:blipFill>
          <p:spPr>
            <a:xfrm>
              <a:off x="8475840" y="1373040"/>
              <a:ext cx="2743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377000" y="1359000"/>
              <a:ext cx="21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 µV step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347840" y="785880"/>
            <a:ext cx="7402320" cy="589320"/>
            <a:chOff x="1347840" y="785880"/>
            <a:chExt cx="7402320" cy="589320"/>
          </a:xfrm>
        </p:grpSpPr>
        <p:sp>
          <p:nvSpPr>
            <p:cNvPr id="217" name=""/>
            <p:cNvSpPr/>
            <p:nvPr/>
          </p:nvSpPr>
          <p:spPr>
            <a:xfrm>
              <a:off x="1347840" y="785880"/>
              <a:ext cx="206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ernal calib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8" name="Fpwchk" descr=""/>
            <p:cNvPicPr/>
            <p:nvPr/>
          </p:nvPicPr>
          <p:blipFill>
            <a:blip r:embed="rId9"/>
            <a:stretch/>
          </p:blipFill>
          <p:spPr>
            <a:xfrm>
              <a:off x="5419800" y="1087560"/>
              <a:ext cx="2746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Fpwchk" descr=""/>
            <p:cNvPicPr/>
            <p:nvPr/>
          </p:nvPicPr>
          <p:blipFill>
            <a:blip r:embed="rId10"/>
            <a:stretch/>
          </p:blipFill>
          <p:spPr>
            <a:xfrm>
              <a:off x="8475840" y="1087560"/>
              <a:ext cx="2743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1375200" y="1073160"/>
              <a:ext cx="2272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 µV 20 Hz sine w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Behavior" descr=""/>
          <p:cNvPicPr/>
          <p:nvPr/>
        </p:nvPicPr>
        <p:blipFill>
          <a:blip r:embed="rId1"/>
          <a:stretch/>
        </p:blipFill>
        <p:spPr>
          <a:xfrm>
            <a:off x="577800" y="1089000"/>
            <a:ext cx="9487080" cy="4705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62120" y="304920"/>
            <a:ext cx="429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havioral Dat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Correct button p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20320" y="604188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791920" y="6041880"/>
            <a:ext cx="83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695a4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 = .0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96240" y="604188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67480" y="6041880"/>
            <a:ext cx="83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695a4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2695a4"/>
                </a:solidFill>
                <a:latin typeface="Arial"/>
              </a:rPr>
              <a:t> = .0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ECP30_tonal2" descr=""/>
          <p:cNvPicPr/>
          <p:nvPr/>
        </p:nvPicPr>
        <p:blipFill>
          <a:blip r:embed="rId1"/>
          <a:stretch/>
        </p:blipFill>
        <p:spPr>
          <a:xfrm>
            <a:off x="960480" y="977760"/>
            <a:ext cx="9051840" cy="58183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762120" y="304920"/>
            <a:ext cx="429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RP Wave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Complex 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15000" y="304920"/>
            <a:ext cx="13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lectro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780320" y="533520"/>
            <a:ext cx="1676520" cy="516240"/>
            <a:chOff x="7780320" y="533520"/>
            <a:chExt cx="1676520" cy="516240"/>
          </a:xfrm>
        </p:grpSpPr>
        <p:sp>
          <p:nvSpPr>
            <p:cNvPr id="231" name=""/>
            <p:cNvSpPr/>
            <p:nvPr/>
          </p:nvSpPr>
          <p:spPr>
            <a:xfrm>
              <a:off x="7780320" y="74268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80"/>
                  </a:solidFill>
                  <a:latin typeface="Arial"/>
                </a:rPr>
                <a:t>-------  Nontarg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80320" y="53352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40204"/>
                  </a:solidFill>
                  <a:latin typeface="Arial"/>
                </a:rPr>
                <a:t>-------  Targ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ECP30_phonetic" descr=""/>
          <p:cNvPicPr/>
          <p:nvPr/>
        </p:nvPicPr>
        <p:blipFill>
          <a:blip r:embed="rId1"/>
          <a:stretch/>
        </p:blipFill>
        <p:spPr>
          <a:xfrm>
            <a:off x="960480" y="976320"/>
            <a:ext cx="9051840" cy="5818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815000" y="304920"/>
            <a:ext cx="13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lectro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780320" y="533520"/>
            <a:ext cx="1676520" cy="516240"/>
            <a:chOff x="7780320" y="533520"/>
            <a:chExt cx="1676520" cy="516240"/>
          </a:xfrm>
        </p:grpSpPr>
        <p:sp>
          <p:nvSpPr>
            <p:cNvPr id="236" name=""/>
            <p:cNvSpPr/>
            <p:nvPr/>
          </p:nvSpPr>
          <p:spPr>
            <a:xfrm>
              <a:off x="7780320" y="74268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80"/>
                  </a:solidFill>
                  <a:latin typeface="Arial"/>
                </a:rPr>
                <a:t>-------  Nontarg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80320" y="53352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40204"/>
                  </a:solidFill>
                  <a:latin typeface="Arial"/>
                </a:rPr>
                <a:t>-------  Targ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62120" y="304920"/>
            <a:ext cx="32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RP Wave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CV Syll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GSN128_tonal" descr=""/>
          <p:cNvPicPr/>
          <p:nvPr/>
        </p:nvPicPr>
        <p:blipFill>
          <a:blip r:embed="rId1"/>
          <a:stretch/>
        </p:blipFill>
        <p:spPr>
          <a:xfrm>
            <a:off x="646200" y="593640"/>
            <a:ext cx="9677160" cy="6448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62120" y="304920"/>
            <a:ext cx="429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RP Wave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Complex 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33960" y="304920"/>
            <a:ext cx="25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Geodesic Sensor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780320" y="533520"/>
            <a:ext cx="1676520" cy="516240"/>
            <a:chOff x="7780320" y="533520"/>
            <a:chExt cx="1676520" cy="516240"/>
          </a:xfrm>
        </p:grpSpPr>
        <p:sp>
          <p:nvSpPr>
            <p:cNvPr id="243" name=""/>
            <p:cNvSpPr/>
            <p:nvPr/>
          </p:nvSpPr>
          <p:spPr>
            <a:xfrm>
              <a:off x="7780320" y="74268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80"/>
                  </a:solidFill>
                  <a:latin typeface="Arial"/>
                </a:rPr>
                <a:t>-------  Nontarg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80320" y="53352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40204"/>
                  </a:solidFill>
                  <a:latin typeface="Arial"/>
                </a:rPr>
                <a:t>-------  Targ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9T22:34:26Z</dcterms:created>
  <dc:creator>Jurgen Kayser</dc:creator>
  <dc:description/>
  <dc:language>en-US</dc:language>
  <cp:lastModifiedBy>Jürgen Kayser</cp:lastModifiedBy>
  <dcterms:modified xsi:type="dcterms:W3CDTF">2000-10-24T20:49:18Z</dcterms:modified>
  <cp:revision>257</cp:revision>
  <dc:subject/>
  <dc:title>No Slide Title</dc:title>
</cp:coreProperties>
</file>